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BD03-6CC6-4D1B-8EDE-78E605B4BA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2838-1430-427E-90B2-3496A6940B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2D88-44ED-47A8-9740-E902131501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1E71-B9EE-4268-B106-FDB5E565E8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563C-45C4-4959-9EF4-A1B8A9D6705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20B6-402E-4E46-851B-7F9DCB53CD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D009-BA5E-48E7-9873-9E2B005261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54B1-D66E-46DA-9650-B07DD321E0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7091-4F55-403D-AD2B-5CE2195F75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459D-60C3-46B9-A5C2-4E63814BD2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8AD4-E5E9-40C2-A9C5-265DB2C1E0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D081-B0E3-4191-B376-B32663F01A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11C2-11CE-4C16-B338-687305E033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2E8A-0748-4E8F-83CF-B55868AE48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7506-9BB8-4306-AE1F-A8B64C038C1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F8C8-9361-4848-BE6C-0F419304EC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1C36-8D38-481B-8545-CB541FF946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F42A-9C06-4D46-A9CC-E05AE1E7DB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5441-DB57-4B01-ACF2-4400DB139D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17AE-ACB3-45C1-B825-AE7D651FD0E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8F7C-C887-41B7-BA4B-9E190B62FF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B1D29-37BC-4AE0-9A0A-72F6FB649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F221-CEB5-4FD2-8E5D-D7F09A5A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17E1F-EEB1-4CB7-A228-8C6C7A33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63F50-183B-4B50-BF28-662391E9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AD64-402C-4A76-81E7-D1B6B8756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410CA-7B8F-4055-B649-FDA92A26E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D7EF-CA0E-42BF-8C68-DF3EFFD1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10DF-1192-4E21-BAD3-B7FD8365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7B85E-4EC5-4F3F-97BC-417227DA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99B3-69A7-46F0-9FAD-F268E68E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B265-801F-42C6-924D-57956BB2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C210-08EE-41B5-8460-F44CAED81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3C2E-4AB0-458F-A4B9-9C480201AF3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74"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76"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80"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4"/>
          <p:cNvGraphicFramePr/>
          <p:nvPr/>
        </p:nvGraphicFramePr>
        <p:xfrm>
          <a:off x="1981080" y="533520"/>
          <a:ext cx="5486400" cy="5478480"/>
        </p:xfrm>
        <a:graphic>
          <a:graphicData uri="http://schemas.openxmlformats.org/presentationml/2006/ole">
            <p:oleObj r:id="rId1" spid="">
              <p:embed/>
              <p:pic>
                <p:nvPicPr>
                  <p:cNvPr id="86"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70"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5:24:34Z</dcterms:modified>
  <cp:revision>14</cp:revision>
  <dc:subject/>
  <dc:title>Programmes et services  d’emploi  de l’Ontario</dc:title>
</cp:coreProperties>
</file>